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70C-E395-4209-8672-9114BA42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E90-35ED-49E3-9BF0-5A0D1842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40C-8283-46C1-A405-3EB3965D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9625-1B71-490F-993E-F35B251D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D569-2D68-4DC4-94E0-8A304E89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A77C-69A7-4726-9F7B-08C5CB4D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1181-C9C5-4514-96A5-C979BDA3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19CA-7098-41BA-854D-B46BA5CD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3448-576D-4CDF-95F9-C7D09CA7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1E91-D6E7-4CB1-BB8C-54EAE6E7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B26C-9427-49B6-9D8C-CF041C14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8E1-36F5-42BC-971D-D8B39D34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64C2-6D5C-4779-9310-6EC32192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E205-4D3F-4844-BE04-7E70A4DE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BEF6-5332-486F-BE1D-068BA353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FF09-5A12-4BC0-85F4-3D4ACC0B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F425-6F2A-4659-8FEC-433239A2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9B713-C87D-45BF-B5A2-35B398FE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8DC5E-080C-4A70-BC86-D9718709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7030D-D951-4B46-8D00-F65AA896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9985F-113B-490F-A97F-80556D30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14AF6-1E24-4721-85DF-91A6D67F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241-72BA-4C41-9B58-4A1A250D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1EF35-E155-46A3-9E9E-919DA34D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FD912-4FC2-4F3E-962B-83513804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88055-D038-4AC2-ABC2-6E4ABEE3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BF70FD-C69F-4A73-815B-0ADE7623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D4BB9-E1DB-4BB7-8034-A30159F4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68920-5B47-4C9B-8BB1-4244FABD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940C4-4C99-4A43-8C2A-43229571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AECBB2-F939-48BA-9344-E0F686D8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BB9E51-E8AB-4A88-BAFB-D14C7E99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B33509-19ED-479C-BFA0-94436A25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2FDD-FC30-4EF0-99BE-33B424C4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755985-288E-4A2E-8CA4-F75FE315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A658D7-6C03-4533-929C-6763726F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772843-19B7-47D7-962D-5A039DC9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047180-9246-4801-8632-882C7F96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B5EEFF-9D9B-47A4-85AC-0D3CEE5A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F0B7B-DC32-40D6-9B77-9277B4D0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8A9C2C-15CC-4BED-AA64-1DC82C5D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B0B50E-9119-4B07-923D-714D021C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D35EBA-DBC9-409E-A412-04BACA90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AC8CCA-5487-4C31-A0E2-E68D2E0B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D3CF-5BAD-463B-90A6-B6CFF8B5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932C2D-4E7B-4168-A5C5-8BC3D4DB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F3DCDD-D7B5-49CB-8FD9-7FD5760A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27BAC-5C11-4BD6-8EAF-05F349D4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BF9FEA-F13C-4A11-9673-C70BB993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AB489C-313D-4649-8F4F-5D0EB9EE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1EC61-B285-412F-9DD9-4CE9FE01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3EC99-DCF3-414F-AC66-BC223AD2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313CF7-26B7-4939-BF84-EC98B513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28BE8B-D76C-4532-A6BB-A6A5C3F3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C698E3-E894-4BAE-81D6-54E46C33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951-A1AD-4F81-8B38-4EB5D4FE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65B89-E036-42DE-A9FF-FE133171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911F6-3D54-4D0C-8CBA-B697F140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C47DF-C28F-4E63-A3E7-7D878DC5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C29C0-02A0-4820-8057-719090CA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02599-6292-4936-9EE0-78A807B2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95A84-9E36-47C5-9BDD-5445B05B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32FE7-CF40-47BE-A854-44A1126A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B4E7A-B4EA-4354-8CB5-CAA725BD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5B73A-3767-40C3-804A-924B8055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98053-5AFD-4288-B169-0C61F873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EE1B-E07C-472C-88EA-48F7D775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B9522-7EBE-48B2-9C8F-9544CC16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E7356-C159-4B19-8C19-A0CE5C64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1F937-0355-499B-9FE5-D7CE89E2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2DAD2D-B404-4923-900F-C46E2041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894A57-4B59-4C9C-A1EB-E00862F6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B2E23B-7579-40E7-B4A5-F164D0CF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289179-C2F1-40F6-88F7-11DAA8AA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1D4227-D245-4A21-B85B-8BA7122B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AE9EAB-D2AA-43C8-97D1-EFCD972D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DF66BC-3CE7-49DE-996C-03734C8A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0F8C-8CC5-40A7-9BEB-60522196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C4F2B4-60CD-4BC7-B627-B426CA9C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93C4FA-6F7A-4112-A480-B2A638C1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B7DEC3-D9AC-4F9A-9E53-B835F05B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CAA4D6-C658-4355-8CCB-CA3747D5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10F8C8-58F6-49BC-A320-4B0A71E8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1E722-0A73-4E2F-98F2-A3373C91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5AC3A-10E8-4DE6-A587-A654780E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EAF9A-ED7F-46FE-8E04-A1343778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C23F5-EB4A-4D80-A9F9-4D90E219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B11FF-0AAF-4EAC-AB92-4D55231D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EC1-7879-4851-9961-F701C9E2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238D1-0413-4AF5-9EAA-BD2A1F4C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0FBE0-E8D6-41F5-B2A7-7EC31D09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7F365-EF12-41F4-81A4-9DE361C9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36053-9957-4E70-8247-C3A384C4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0B261-6048-4DB9-9347-5CC828D3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409D0-6E0F-4920-969F-AAD1EB2E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FC4A3-D852-492E-8013-3B2AFBEF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1AF8-AA4D-45CB-A017-1C53AB06097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B50F-6850-4360-8E9F-1F9DE096F520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DAA9-8007-43B2-AC91-E3CCFA366A3C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5519-3888-4792-AF5E-80FA03B63D5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8A9B-D3E2-407C-AF81-BEAEB328241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BA3B-F298-485A-A9EF-46FDC34356BC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B88D-7DD3-4CDC-B15D-D070D40C8209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D898-7860-428C-80E5-38C44144619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FACEBOOK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Gallery Walk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775f55"/>
                </a:solidFill>
                <a:latin typeface="Tw Cen MT"/>
              </a:rPr>
              <a:t>Which organism is the best hunter? Why?</a:t>
            </a:r>
            <a:endParaRPr b="0" lang="en-US" sz="47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775f55"/>
                </a:solidFill>
                <a:latin typeface="Tw Cen MT"/>
              </a:rPr>
              <a:t>Which organism would you want to keep as a pet?  Why?</a:t>
            </a:r>
            <a:endParaRPr b="0" lang="en-US" sz="47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earning Targe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pecta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You will treat the room and the posters like a museum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nds OFF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isper voi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You will look for 5 different organism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You may not repeat a page if it fits more than 1 category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cord the name of the organism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cord 2 facts from each page you view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14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Wall posts will give you the best information.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14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Each fact should be different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2" descr="C:\Users\Corey Leet\AppData\Local\Microsoft\Windows\Temporary Internet Files\Content.IE5\5T1OISBM\MC900332188[1].wmf"/>
          <p:cNvPicPr/>
          <p:nvPr/>
        </p:nvPicPr>
        <p:blipFill>
          <a:blip r:embed="rId1"/>
          <a:stretch/>
        </p:blipFill>
        <p:spPr>
          <a:xfrm rot="1042800">
            <a:off x="7065720" y="355680"/>
            <a:ext cx="15318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t up your page like this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09120" y="15998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frican organism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arine (ocean) organism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onsumer – Carnivore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onsumer – Herbivore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Local organism (found in U.S.)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C:\Users\Corey Leet\AppData\Local\Microsoft\Windows\Temporary Internet Files\Content.IE5\5T1OISBM\MC900310838[1].wmf"/>
          <p:cNvPicPr/>
          <p:nvPr/>
        </p:nvPicPr>
        <p:blipFill>
          <a:blip r:embed="rId1"/>
          <a:stretch/>
        </p:blipFill>
        <p:spPr>
          <a:xfrm rot="700800">
            <a:off x="6656040" y="1085400"/>
            <a:ext cx="18082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09120" y="15998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frican organism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arine (ocean) organism: Annie the Anglerfish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ive in the ocean depths where it is extremely da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cteria make the end of their “pole” glo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onsumer – Carnivore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onsumer – Herbivore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Local organism (found in U.S.): Zane the Zebra Muss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nvasive species in Minnesot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ttach to living and nonliving thing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2" descr="C:\Users\Corey Leet\AppData\Local\Microsoft\Windows\Temporary Internet Files\Content.IE5\5T1OISBM\MC900310838[1].wmf"/>
          <p:cNvPicPr/>
          <p:nvPr/>
        </p:nvPicPr>
        <p:blipFill>
          <a:blip r:embed="rId1"/>
          <a:stretch/>
        </p:blipFill>
        <p:spPr>
          <a:xfrm rot="700800">
            <a:off x="6656040" y="1085400"/>
            <a:ext cx="18082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No Exceptions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"/>
              </a:rPr>
              <a:t>No More Than 2 People at a Poster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5" name="Picture 2" descr="C:\Users\Corey Leet\AppData\Local\Microsoft\Windows\Temporary Internet Files\Content.IE5\703JPMLY\MC900098037[1].wmf"/>
          <p:cNvPicPr/>
          <p:nvPr/>
        </p:nvPicPr>
        <p:blipFill>
          <a:blip r:embed="rId1"/>
          <a:stretch/>
        </p:blipFill>
        <p:spPr>
          <a:xfrm>
            <a:off x="3733920" y="3200400"/>
            <a:ext cx="159516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You do not have to go in order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flection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775f55"/>
                </a:solidFill>
                <a:latin typeface="Tw Cen MT"/>
              </a:rPr>
              <a:t>Which organism was the most interesting? Why?</a:t>
            </a:r>
            <a:endParaRPr b="0" lang="en-US" sz="47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2:25:17Z</dcterms:created>
  <dc:creator>Corey Leet</dc:creator>
  <dc:description/>
  <dc:language>en-US</dc:language>
  <cp:lastModifiedBy>Erin Lemke</cp:lastModifiedBy>
  <dcterms:modified xsi:type="dcterms:W3CDTF">2012-05-29T18:42:40Z</dcterms:modified>
  <cp:revision>15</cp:revision>
  <dc:subject/>
  <dc:title>Facebook</dc:title>
</cp:coreProperties>
</file>